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0EC-1889-4364-9F62-04E04448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E57-5B64-40BD-86AF-4804606C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108-2071-4B5E-A100-20DE542C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E53-6192-45AD-A155-33BC13CB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7901-F9E6-4E1B-A795-A683D2D4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69D1-3346-4324-AA3B-EE31B697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1A10-7C3D-409D-B98E-628D3856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A60A-E4E3-40D7-84EE-0C014A24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F291-B305-4D03-9BE3-D1FA086C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E331-726B-42A4-90BB-DDD79078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C00F-D851-475D-8C32-7FC0E85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CB2-E97F-4FB1-9C9D-5173AC1E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0F98-1DF8-4CF8-8C71-35187925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4E3C-FBE9-4F65-A3A8-7E39E9A5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0286-5CD3-449A-9FAC-1CE7DB88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FE0D-7DCE-4A5E-8250-0EC08BD8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1B07-D264-4E20-9DDF-152C8D18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D86-2772-46DF-A2F5-DA68E728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D22-0D7A-4FE3-BF21-74C755C6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19D-E374-436D-9AA1-E1C119F0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BDD-9C7A-42CF-9CCC-E6A414E5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9F2-08C7-4A52-B612-86D05A4D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726-F8A1-46F0-921B-46A4F97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73A-4784-4455-9495-285D087A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531D-F198-401C-ADFE-C31708EAC5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9E3B-7A72-4B19-8CC6-3B11BDE461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ормативная баз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едеральный Закон от 02.05.2006 года 59-ФЗ «О порядке рассмотрения обращений граждан Российской Федерации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ламент администрации Таловского муниципального района, утвержденный постановлением администрации муниципального района от 29.11.2010 № 1750. 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оличество обраще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246320" y="1420920"/>
          <a:ext cx="7897680" cy="46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6320" y="1420920"/>
                    <a:ext cx="7897680" cy="46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26560" y="1844640"/>
            <a:ext cx="79930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сударство, общество, политика       - 4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циальная сфера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- 11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кономия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- 89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рона, безопасность, законность    - 3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К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- 37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41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ематика обращен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14" descr="Рисунок1"/>
          <p:cNvPicPr/>
          <p:nvPr/>
        </p:nvPicPr>
        <p:blipFill>
          <a:blip r:embed="rId1"/>
          <a:stretch/>
        </p:blipFill>
        <p:spPr>
          <a:xfrm>
            <a:off x="4859280" y="260280"/>
            <a:ext cx="3794040" cy="26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Все новости за 17.04.2014 - Страница 2 - Лента новостей Тюмени"/>
          <p:cNvPicPr/>
          <p:nvPr/>
        </p:nvPicPr>
        <p:blipFill>
          <a:blip r:embed="rId2"/>
          <a:stretch/>
        </p:blipFill>
        <p:spPr>
          <a:xfrm>
            <a:off x="4932360" y="3213000"/>
            <a:ext cx="3311640" cy="317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Социальная сфера - Пушкинский район"/>
          <p:cNvPicPr/>
          <p:nvPr/>
        </p:nvPicPr>
        <p:blipFill>
          <a:blip r:embed="rId3"/>
          <a:stretch/>
        </p:blipFill>
        <p:spPr>
          <a:xfrm>
            <a:off x="755640" y="2060640"/>
            <a:ext cx="388764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4321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бщественная приемная губернатора области 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А.В. Гордеева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В.В. Масько провел прием граждан"/>
          <p:cNvPicPr/>
          <p:nvPr/>
        </p:nvPicPr>
        <p:blipFill>
          <a:blip r:embed="rId1"/>
          <a:stretch/>
        </p:blipFill>
        <p:spPr>
          <a:xfrm>
            <a:off x="5003640" y="692280"/>
            <a:ext cx="3810240" cy="333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%D0%BE%D0%B1%D1%80%D0%B0%D0%B1%D0%BE%D1%82"/>
          <p:cNvPicPr/>
          <p:nvPr/>
        </p:nvPicPr>
        <p:blipFill>
          <a:blip r:embed="rId2"/>
          <a:stretch/>
        </p:blipFill>
        <p:spPr>
          <a:xfrm>
            <a:off x="250920" y="2133720"/>
            <a:ext cx="482436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651280" y="1628280"/>
            <a:ext cx="2849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9 жителей обратились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и помощи сети Интернет (через интерактивную форму на официальном сайте или посредством электронной поч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Электронное декларирование: система не стоит на месте. - Компетентно - Мобильный вариант. Новости Бреста и области, события, про"/>
          <p:cNvPicPr/>
          <p:nvPr/>
        </p:nvPicPr>
        <p:blipFill>
          <a:blip r:embed="rId1"/>
          <a:stretch/>
        </p:blipFill>
        <p:spPr>
          <a:xfrm>
            <a:off x="468360" y="1581120"/>
            <a:ext cx="518328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Горячая линия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Picture 9" descr="Рисунок2"/>
          <p:cNvPicPr/>
          <p:nvPr/>
        </p:nvPicPr>
        <p:blipFill>
          <a:blip r:embed="rId1"/>
          <a:stretch/>
        </p:blipFill>
        <p:spPr>
          <a:xfrm>
            <a:off x="5219640" y="260280"/>
            <a:ext cx="3579840" cy="22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11"/>
          <p:cNvGraphicFramePr/>
          <p:nvPr/>
        </p:nvGraphicFramePr>
        <p:xfrm>
          <a:off x="971640" y="2421000"/>
          <a:ext cx="7564320" cy="424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421000"/>
                    <a:ext cx="756432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6:27:35Z</dcterms:created>
  <dc:creator>uborodaenko</dc:creator>
  <dc:description/>
  <dc:language>en-US</dc:language>
  <cp:lastModifiedBy>Таловский муниципальный район</cp:lastModifiedBy>
  <dcterms:modified xsi:type="dcterms:W3CDTF">2015-04-23T11:00:59Z</dcterms:modified>
  <cp:revision>18</cp:revision>
  <dc:subject/>
  <dc:title>О работе с обращениями граждан в администрации Таловского муниципального района в 2014 году. </dc:title>
</cp:coreProperties>
</file>